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8756-2D32-4D89-8AE9-E6B3E45ED4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  Water + Carbon  + energ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Water + Carbon  +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A8D-E930-45AE-901E-3D704A30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4BC-C7F8-45DB-B4B5-B0BE9C13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C44-53F6-420E-A646-0835F6A6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B67-2B2E-41E7-B12F-6601CC35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2463A-92BC-40B9-ABEA-AB8C5FCB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55DB4-655B-4584-861A-BFD2591F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B29BA-6C49-4156-AD1F-FB08AE88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C623C-B47D-41CE-9A6A-ABE39CC6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A1553-7E5E-48AC-8B18-A97F9839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2E494-8929-480F-BCCB-70AC75AD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37122-193F-4E51-85DF-28703432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04F-BAB3-4108-B1DF-25946D7E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10723-48B1-4D40-BFD6-3525D48D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CA6DE-7A88-4E46-8623-735A955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B41DF-E1D7-4E17-9D9C-FB5AAF05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A7421-3E73-45F1-8DD4-4DA67B7F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7C087-B8F4-4962-B20F-AF73223A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12C-8A78-4051-8A15-DACF899F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6BB-9A6F-4EAC-B6DB-4E2ECE82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229-7AFE-4934-8FFC-185CF158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C09-6561-4927-A651-90A00832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0BA-4DCB-4496-A7CF-A56B2DBA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B2C-D21B-4DC3-ADA0-EC2EED66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88E-00FE-4869-894B-32D23DD8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455B-A840-4127-B425-A73A5D775D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5FAE-67C3-4427-BA7A-8AAA744BFF7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ff"/>
                </a:solidFill>
                <a:latin typeface="Tahoma"/>
              </a:rPr>
              <a:t>Animal survival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Water and waste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Aims of today…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be 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dentify ways in which a mammal gains and loses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te that the kidneys are the main organs for regulating the water content in a mam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he role of ADH in the regulation of water bal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70 % of our bodies are wat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e gain liquid from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40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itsel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od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mical reaction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905120"/>
          <a:ext cx="4038480" cy="4114800"/>
        </p:xfrm>
        <a:graphic>
          <a:graphicData uri="http://schemas.openxmlformats.org/drawingml/2006/table">
            <a:tbl>
              <a:tblPr/>
              <a:tblGrid>
                <a:gridCol w="2228760"/>
                <a:gridCol w="180972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et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he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rnf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cose + oxygen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 Carbon  + energ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ffffff"/>
                </a:solidFill>
                <a:latin typeface="Tahoma"/>
              </a:rPr>
              <a:t>We lose water through…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Sweat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Breat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Urine (kidneys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Faeces (easily expelled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0% of our bodies ar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ys constant due to our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dney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ots of water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ts of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ittle water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ttle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D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idneys are controlled by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-diuretic hormon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DH) released from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tuitary gland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ttached to brai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H (a hormone) controls volume of water reabsorbed and returned to bloodstream by kidn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not reabsorbed passes to bladder as urine to be expe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AutoShape 6"/>
          <p:cNvCxnSpPr>
            <a:stCxn id="106" idx="0"/>
            <a:endCxn id="107" idx="1"/>
          </p:cNvCxnSpPr>
          <p:nvPr/>
        </p:nvCxnSpPr>
        <p:spPr>
          <a:xfrm flipH="1" flipV="1" rot="5400000">
            <a:off x="3854160" y="1415520"/>
            <a:ext cx="2342520" cy="9230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Text Box 7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1" name="AutoShape 8"/>
          <p:cNvCxnSpPr>
            <a:stCxn id="106" idx="0"/>
            <a:endCxn id="108" idx="3"/>
          </p:cNvCxnSpPr>
          <p:nvPr/>
        </p:nvCxnSpPr>
        <p:spPr>
          <a:xfrm flipV="1" rot="16200000">
            <a:off x="2787480" y="1270800"/>
            <a:ext cx="2265840" cy="12880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Text Box 9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4" name="AutoShape 11"/>
          <p:cNvCxnSpPr>
            <a:stCxn id="108" idx="1"/>
            <a:endCxn id="113" idx="0"/>
          </p:cNvCxnSpPr>
          <p:nvPr/>
        </p:nvCxnSpPr>
        <p:spPr>
          <a:xfrm flipV="1" rot="10800000">
            <a:off x="646920" y="782280"/>
            <a:ext cx="724680" cy="19612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Text Box 12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AutoShape 13"/>
          <p:cNvCxnSpPr>
            <a:stCxn id="113" idx="2"/>
            <a:endCxn id="115" idx="1"/>
          </p:cNvCxnSpPr>
          <p:nvPr/>
        </p:nvCxnSpPr>
        <p:spPr>
          <a:xfrm flipH="1" rot="16200000">
            <a:off x="167400" y="4151520"/>
            <a:ext cx="1989720" cy="10296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AutoShape 14"/>
          <p:cNvCxnSpPr>
            <a:stCxn id="115" idx="3"/>
            <a:endCxn id="106" idx="2"/>
          </p:cNvCxnSpPr>
          <p:nvPr/>
        </p:nvCxnSpPr>
        <p:spPr>
          <a:xfrm flipV="1">
            <a:off x="3034800" y="3698640"/>
            <a:ext cx="1529640" cy="196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Text Box 15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0" name="AutoShape 17"/>
          <p:cNvCxnSpPr>
            <a:stCxn id="107" idx="3"/>
            <a:endCxn id="118" idx="0"/>
          </p:cNvCxnSpPr>
          <p:nvPr/>
        </p:nvCxnSpPr>
        <p:spPr>
          <a:xfrm>
            <a:off x="7467480" y="705960"/>
            <a:ext cx="1013760" cy="21898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18" idx="2"/>
            <a:endCxn id="119" idx="3"/>
          </p:cNvCxnSpPr>
          <p:nvPr/>
        </p:nvCxnSpPr>
        <p:spPr>
          <a:xfrm rot="5400000">
            <a:off x="6969960" y="4073040"/>
            <a:ext cx="1762920" cy="12582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9" idx="1"/>
            <a:endCxn id="106" idx="2"/>
          </p:cNvCxnSpPr>
          <p:nvPr/>
        </p:nvCxnSpPr>
        <p:spPr>
          <a:xfrm rot="10800000">
            <a:off x="4563360" y="3698280"/>
            <a:ext cx="1303920" cy="188496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 Box 20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4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7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8:17:50Z</dcterms:created>
  <dc:creator>test</dc:creator>
  <dc:description/>
  <dc:language>en-US</dc:language>
  <cp:lastModifiedBy>RomaK</cp:lastModifiedBy>
  <dcterms:modified xsi:type="dcterms:W3CDTF">2015-09-02T05:53:34Z</dcterms:modified>
  <cp:revision>7</cp:revision>
  <dc:subject/>
  <dc:title>Animal survival</dc:title>
</cp:coreProperties>
</file>